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3A4-F6F3-46D2-B2E4-2EA4134C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A32-D0A3-4D2C-9A23-874224B7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B13-3AA1-4CE6-ACDC-465C0F77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A3F-60DD-4054-9BB4-EB975C8B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3E9-93DF-456B-B8B1-9AFEA75A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3A2-435D-4952-92B8-E352A04C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D21-0FB8-4336-B2D0-EB09C35A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01A-A771-42C4-9BA0-1B86FA44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A4D-3589-441C-BD60-F9818E27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2D6-FCE9-473A-93FF-591E68DB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7D0-2CEE-43A6-994B-79A26A4F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488-4604-4408-A933-17FB2F1B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8189-7C7D-49F9-8603-AA5CC0210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lsimages.movoto.com/411/072/835972_0.jpg&amp;imgrefurl=http://www.movoto.com/real-estate/homes-for-sale/NC/Charlotte/115-E-Park-Ave-411_835972.htm&amp;usg=__nGXZUB7K0eJm-SBzH_4VwlCa-O0=&amp;h=480&amp;w=640&amp;sz=107&amp;hl=en&amp;start=25&amp;um=1&amp;tbnid=kSFL9gtdcnyi9M:&amp;tbnh=103&amp;tbnw=137&amp;prev=/images%3Fq%3Dcooperative%2Bapartments%2Bin%2Bcharlotte%26ndsp%3D18%26hl%3Den%26safe%3Dactive%26sa%3DN%26start%3D18%26um%3D1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rentals.com/Home-Rentals/Display.aspx?ListingNumber=889294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rentals.com/Home-Rentals/Display.aspx?ListingNumber=874906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hearhomes.com/images/miami-custom-home/custom-built-homes-miami-05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shearhomes.com/images/miami-custom-home/custom-built-homes-miami-06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shearhomes.com/images/miami-custom-home/1031_N_Venetian-1683.jp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www.shearhomes.com/images/miami-custom-home/custom-built-homes-miami-07.jpg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images.google.com/imgres?imgurl=http://www.linda-colorado-real-estate.com/listings/luxury_homes/luxury_custom_built_home_evergreen_colorado.jpg&amp;imgrefurl=http://www.linda-colorado-real-estate.com/listings/luxury_homes/&amp;usg=__jt0g5wn4LxbgsfBgoWOcA5YTxMo=&amp;h=338&amp;w=450&amp;sz=45&amp;hl=en&amp;start=20&amp;tbnid=Xpv_IxoGGhKgrM:&amp;tbnh=95&amp;tbnw=127&amp;prev=/images%3Fq%3Dcustom%2Bbuilt%2Bhomes%26gbv%3D2%26hl%3Den%26safe%3Dactive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google.com/imgres?imgurl=http://www.harborhomesofmaine.com/images/custom-built-home-2.jpg&amp;imgrefurl=http://www.harborhomesofmaine.com/custom.asp&amp;usg=__KWggueXuIrHh0u6Bzs4qs_VY0vE=&amp;h=460&amp;w=360&amp;sz=67&amp;hl=en&amp;start=28&amp;tbnid=EMZTPRLQZg42JM:&amp;tbnh=128&amp;tbnw=100&amp;prev=/images%3Fq%3Dcustom%2Bbuilt%2Bhomes%26gbv%3D2%26ndsp%3D20%26hl%3Den%26safe%3Dactive%26sa%3DN%26start%3D20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penthouses.com.au/images/apartments/pic1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archidose.org/Blog/UN-NYC1.jpg&amp;imgrefurl=http://archidose.blogspot.com/2008_04_01_archive.html&amp;usg=__v-5WiqrKpUHsCuqa96dhVVdhMiQ=&amp;h=890&amp;w=500&amp;sz=128&amp;hl=en&amp;start=16&amp;um=1&amp;tbnid=hgUQDjK1fq_bEM:&amp;tbnh=146&amp;tbnw=82&amp;prev=/images%3Fq%3DNYC%2Bsmall%2Befficiency%2Bapartments%26hl%3Den%26safe%3Dactive%26sa%3DN%26um%3D1" TargetMode="External"/><Relationship Id="rId5" Type="http://schemas.openxmlformats.org/officeDocument/2006/relationships/image" Target="../media/image3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apartments.com/summary.aspx?property=102529.145&amp;srank=5&amp;subarea1=y&amp;area6=y&amp;state=nc&amp;rgn1=144&amp;rent_minimum=0&amp;rent_maximum=99999&amp;am9=0&amp;am13=0&amp;am15=0&amp;page=summary&amp;prvpg=7&amp;srt1=0.53&amp;srt2=0.26&amp;srt3=0.59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apartments.com/summary.aspx?property=105449.26&amp;srank=8&amp;subarea1=y&amp;area6=y&amp;state=nc&amp;rgn1=144&amp;rent_minimum=0&amp;rent_maximum=99999&amp;am9=0&amp;am13=0&amp;am15=0&amp;page=summary&amp;prvpg=7&amp;srt1=0.53&amp;srt2=0.26&amp;srt3=0.59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01 Housing Op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rry Br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. Bu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8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5 E Park 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835972_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59092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forest10_860414"/>
          <p:cNvPicPr/>
          <p:nvPr/>
        </p:nvPicPr>
        <p:blipFill>
          <a:blip r:embed="rId3"/>
          <a:stretch/>
        </p:blipFill>
        <p:spPr>
          <a:xfrm>
            <a:off x="5334120" y="243828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ominiu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nership in which the buyer owns individual space and interest in the common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follow the HOA (Homeowners Association) in regards to the exterior of unit, all yards, and other common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ake NO changes unless approved by H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x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809876"/>
          <p:cNvPicPr/>
          <p:nvPr/>
        </p:nvPicPr>
        <p:blipFill>
          <a:blip r:embed="rId1"/>
          <a:stretch/>
        </p:blipFill>
        <p:spPr>
          <a:xfrm>
            <a:off x="609480" y="2895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831500_0"/>
          <p:cNvPicPr/>
          <p:nvPr/>
        </p:nvPicPr>
        <p:blipFill>
          <a:blip r:embed="rId2"/>
          <a:stretch/>
        </p:blipFill>
        <p:spPr>
          <a:xfrm>
            <a:off x="4419720" y="26668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ached Hou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one household but shares a commo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ex: 2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x: 3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plex: 4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67899985416146"/>
          <p:cNvPicPr/>
          <p:nvPr/>
        </p:nvPicPr>
        <p:blipFill>
          <a:blip r:embed="rId1"/>
          <a:stretch/>
        </p:blipFill>
        <p:spPr>
          <a:xfrm>
            <a:off x="4952880" y="2743200"/>
            <a:ext cx="358164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n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d housing with at least 2 fl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jpg "/>
          <p:cNvPicPr/>
          <p:nvPr/>
        </p:nvPicPr>
        <p:blipFill>
          <a:blip r:embed="rId1"/>
          <a:stretch/>
        </p:blipFill>
        <p:spPr>
          <a:xfrm>
            <a:off x="685800" y="2666880"/>
            <a:ext cx="2552760" cy="1952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 bed / 2.5 bath Townhouse rent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05280" y="2928960"/>
            <a:ext cx="2038320" cy="156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LEGACY VILLAGE! BEAUTIFUL AREA NEAR LAKE NORMAN!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4419720"/>
            <a:ext cx="2248200" cy="190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 B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me that is designed by an architect and built by a contractor to meet the needs of an individual fami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ustom built home, the home is unique and there are seldom two that are alik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homes are more costly than other homes and often takes longer to bu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ustom-built-homes-miami-05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2057400" cy="13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custom-built-homes-miami-06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4495680"/>
            <a:ext cx="2514600" cy="1681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1031_N_Venetian-1683t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4267080"/>
            <a:ext cx="3429000" cy="22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ustom-built-homes-miami-07th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152388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luxury_custom_built_home_evergreen_colorado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95480" y="3581280"/>
            <a:ext cx="2505240" cy="187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custom-built-home-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29040" y="1143000"/>
            <a:ext cx="178596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ner B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ilding of this home is supervised by the ow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ner built homes require knowledge and lots of personal time and energ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wner does not necessarily do their own work, but hires the individual team of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y B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y-built homes are constructed in parts or  are fully finished in a plant/facto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usually cost less and take less time to constru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homes are built in boxes/rooms and shipped to the building si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boxes” are then assembled onto a foundation to form a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modular-home"/>
          <p:cNvPicPr/>
          <p:nvPr/>
        </p:nvPicPr>
        <p:blipFill>
          <a:blip r:embed="rId1"/>
          <a:stretch/>
        </p:blipFill>
        <p:spPr>
          <a:xfrm>
            <a:off x="609480" y="4572000"/>
            <a:ext cx="2495520" cy="167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Modular-Homes"/>
          <p:cNvPicPr/>
          <p:nvPr/>
        </p:nvPicPr>
        <p:blipFill>
          <a:blip r:embed="rId2"/>
          <a:stretch/>
        </p:blipFill>
        <p:spPr>
          <a:xfrm>
            <a:off x="6400800" y="3352680"/>
            <a:ext cx="23986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: Specific place in the world, country, state, county that YOU live in. Many reasons for choosing this pl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, Family, Job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: regions that are subdivided in towns, cities, rur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Charlotte—Matthews---Meck. 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ed 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homes are completely built in a factory or plant and pulled to the lot on whee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eels may be removed and the home placed on a foundation to meet local c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mobilehome"/>
          <p:cNvPicPr/>
          <p:nvPr/>
        </p:nvPicPr>
        <p:blipFill>
          <a:blip r:embed="rId1"/>
          <a:stretch/>
        </p:blipFill>
        <p:spPr>
          <a:xfrm>
            <a:off x="762120" y="2743200"/>
            <a:ext cx="3162240" cy="3228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gmt2homes"/>
          <p:cNvPicPr/>
          <p:nvPr/>
        </p:nvPicPr>
        <p:blipFill>
          <a:blip r:embed="rId2"/>
          <a:stretch/>
        </p:blipFill>
        <p:spPr>
          <a:xfrm>
            <a:off x="5105520" y="609480"/>
            <a:ext cx="2286000" cy="171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100_4625"/>
          <p:cNvPicPr/>
          <p:nvPr/>
        </p:nvPicPr>
        <p:blipFill>
          <a:blip r:embed="rId3"/>
          <a:stretch/>
        </p:blipFill>
        <p:spPr>
          <a:xfrm>
            <a:off x="990720" y="533520"/>
            <a:ext cx="198108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home-page-photo-block3"/>
          <p:cNvPicPr/>
          <p:nvPr/>
        </p:nvPicPr>
        <p:blipFill>
          <a:blip r:embed="rId4"/>
          <a:stretch/>
        </p:blipFill>
        <p:spPr>
          <a:xfrm>
            <a:off x="5105520" y="2895480"/>
            <a:ext cx="2857320" cy="283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ck B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stick-built” home constructed on the lot using some factory-built components such as precut items and kits (roofs and walls fram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Kit House first wall panel"/>
          <p:cNvPicPr/>
          <p:nvPr/>
        </p:nvPicPr>
        <p:blipFill>
          <a:blip r:embed="rId1"/>
          <a:stretch/>
        </p:blipFill>
        <p:spPr>
          <a:xfrm>
            <a:off x="457200" y="1523880"/>
            <a:ext cx="3000240" cy="2400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omes kit wall panels"/>
          <p:cNvPicPr/>
          <p:nvPr/>
        </p:nvPicPr>
        <p:blipFill>
          <a:blip r:embed="rId2"/>
          <a:stretch/>
        </p:blipFill>
        <p:spPr>
          <a:xfrm>
            <a:off x="4952880" y="1905120"/>
            <a:ext cx="3000600" cy="2019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Modern kit homes wall panels"/>
          <p:cNvPicPr/>
          <p:nvPr/>
        </p:nvPicPr>
        <p:blipFill>
          <a:blip r:embed="rId3"/>
          <a:stretch/>
        </p:blipFill>
        <p:spPr>
          <a:xfrm>
            <a:off x="457200" y="4267080"/>
            <a:ext cx="3000240" cy="2248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kit construction process"/>
          <p:cNvPicPr/>
          <p:nvPr/>
        </p:nvPicPr>
        <p:blipFill>
          <a:blip r:embed="rId4"/>
          <a:stretch/>
        </p:blipFill>
        <p:spPr>
          <a:xfrm>
            <a:off x="4876920" y="4419720"/>
            <a:ext cx="3000240" cy="22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kit house trusses"/>
          <p:cNvPicPr/>
          <p:nvPr/>
        </p:nvPicPr>
        <p:blipFill>
          <a:blip r:embed="rId1"/>
          <a:stretch/>
        </p:blipFill>
        <p:spPr>
          <a:xfrm>
            <a:off x="685800" y="1752480"/>
            <a:ext cx="3000240" cy="201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kit homes shell"/>
          <p:cNvPicPr/>
          <p:nvPr/>
        </p:nvPicPr>
        <p:blipFill>
          <a:blip r:embed="rId2"/>
          <a:stretch/>
        </p:blipFill>
        <p:spPr>
          <a:xfrm>
            <a:off x="4876920" y="1828800"/>
            <a:ext cx="3000240" cy="1762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kit house completed"/>
          <p:cNvPicPr/>
          <p:nvPr/>
        </p:nvPicPr>
        <p:blipFill>
          <a:blip r:embed="rId3"/>
          <a:stretch/>
        </p:blipFill>
        <p:spPr>
          <a:xfrm>
            <a:off x="2895480" y="4114800"/>
            <a:ext cx="3000600" cy="19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ou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amily Hous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that provide housing for more than one fami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tructures always have a commo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t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es located at top of a high-rise apartment building. Usually found i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ic4"/>
          <p:cNvPicPr/>
          <p:nvPr/>
        </p:nvPicPr>
        <p:blipFill>
          <a:blip r:embed="rId1"/>
          <a:stretch/>
        </p:blipFill>
        <p:spPr>
          <a:xfrm>
            <a:off x="304920" y="4038480"/>
            <a:ext cx="2819160" cy="187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e Penthouses Living, Kitchen and Dining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5029200"/>
            <a:ext cx="199080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UN-NYC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4495680"/>
            <a:ext cx="146700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park_small_new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343400" y="29718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den A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a one-story unit with landscaped grounds. Usually has amenities such as pool, club house, tennis, laundry facilities. Can be a large or small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41800_32"/>
          <p:cNvPicPr/>
          <p:nvPr/>
        </p:nvPicPr>
        <p:blipFill>
          <a:blip r:embed="rId1"/>
          <a:stretch/>
        </p:blipFill>
        <p:spPr>
          <a:xfrm>
            <a:off x="380880" y="390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bl0101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4019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bl01013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0400" y="4038480"/>
            <a:ext cx="2438280" cy="200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A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ONE main room that serves as living room and 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kitchen and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3 square feet in NY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View PlanClick the image to close"/>
          <p:cNvPicPr/>
          <p:nvPr/>
        </p:nvPicPr>
        <p:blipFill>
          <a:blip r:embed="rId1"/>
          <a:stretch/>
        </p:blipFill>
        <p:spPr>
          <a:xfrm>
            <a:off x="5486400" y="2095560"/>
            <a:ext cx="2952720" cy="47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per East Si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$2050/month 2 Ro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pt_1383_apt_picture4"/>
          <p:cNvPicPr/>
          <p:nvPr/>
        </p:nvPicPr>
        <p:blipFill>
          <a:blip r:embed="rId1"/>
          <a:stretch/>
        </p:blipFill>
        <p:spPr>
          <a:xfrm>
            <a:off x="685800" y="236232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apt_1383_apt_picture1"/>
          <p:cNvPicPr/>
          <p:nvPr/>
        </p:nvPicPr>
        <p:blipFill>
          <a:blip r:embed="rId2"/>
          <a:stretch/>
        </p:blipFill>
        <p:spPr>
          <a:xfrm>
            <a:off x="4419720" y="2590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ownership in which people buy SHARES of stock in a building and this entitles them to “buy” the unit in which they l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no ones “owns” their specific unit, they own stock in the whole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ants vote to allow people into the building and vote on issues pertaining to th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7:27:48Z</dcterms:created>
  <dc:creator>s.brooks</dc:creator>
  <dc:description/>
  <dc:language>en-US</dc:language>
  <cp:lastModifiedBy>s.brooks</cp:lastModifiedBy>
  <dcterms:modified xsi:type="dcterms:W3CDTF">2011-05-10T13:37:02Z</dcterms:modified>
  <cp:revision>7</cp:revision>
  <dc:subject/>
  <dc:title>2.01 Housing Options </dc:title>
</cp:coreProperties>
</file>